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2AB-80A4-448D-9BE0-8975494D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517-862A-49DD-B660-26811E86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73B-3A7D-4120-8D57-013DDC11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6FB-26E5-4E32-B2A2-7BD38A9F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7C1-11DA-44F2-A474-E461D092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BDF-20FD-4881-98E5-D9BBDAC0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2B1-FEB5-4AF7-BA91-DCB0A19B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346-C168-4391-B61C-D6380D49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2F5-9B94-4021-A603-F0787D54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826-CB38-40B9-90DF-3B21EF00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44C-5C2A-46F0-8C8C-0E21E776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66C-375E-4673-A356-35486B4C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28FA-A34F-4DD5-9445-BFE403964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8920606cRVWnM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71440"/>
            <a:ext cx="8915400" cy="117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حلوة السّم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شو بحبّ السم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يف بدّي أوصلا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تلاقى بِألله  وعيش بِحما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شبّه يا ابني بالمسيح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ن إيمانك أوعى تزي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حياتو لْصَلّى صحيـح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ابني احفظ الوصاي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جنّب فعل الخطاي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فّي كل النوايــ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ارك ياابني بالأسرار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إيمانــك لا تحتـا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قْْرا إنجيلك باسـتمرا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ارك ياابني بجماعـة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زرع الكلمة بشجـا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خْدوم الأخوة بوداعـ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53:37Z</dcterms:modified>
  <cp:revision>10</cp:revision>
  <dc:subject/>
  <dc:title>PowerPoint Presentation</dc:title>
</cp:coreProperties>
</file>